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134-9A5A-4914-A7E3-1788E6D1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DDC-7819-4936-A871-601F9D0D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71A-30C0-44D9-A1D7-67C6DA3B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935-0154-4E2C-BBFD-06E50385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B3DA-67CD-4113-9D1C-E122E330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AE30-F60C-471C-B5A5-093C2E6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EF44-B4AA-4607-B755-E3E79FD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1FE8-C52A-4265-A961-505B5106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DBDE-2DCB-498C-96DA-9538C81D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C145-5111-4976-9E05-9FBE7345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461D-A6AE-4321-995A-3D37843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D28-4268-457A-A0D1-5C39FAA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DD11-279B-414E-BBD5-96D529B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64E4-3A9A-4EF9-B3CE-B19C5801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F3B5-969F-4232-9CFB-BB5C318F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3F8B-970D-426C-B7E6-CFA36C20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D8AA-7348-4AD9-B51E-6201749D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183-26D3-4E16-AE7B-3DC0044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B05-E1A4-4B1D-BA60-C3BE64A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888-FD57-4BA5-B5C6-46C660B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481-70A4-468C-83F2-2403FF72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B60-EA7F-4510-B39E-2C65AAA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A51-9AE0-41D9-B987-4B08E5B4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C31-A04E-42EB-92D2-BA2BEFF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C449-0E2F-4266-82D6-85FBD97838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241D-DDF6-4B71-9F75-8EE72682D9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image" Target="../media/image9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agement: An Applied Behavioral Sciences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205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ment Process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Getting things done with and through people-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ontz and O’Donn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ting goals and objectives for the orga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nging together resources-people, equipment, etc… Integration of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the performance level of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adjustments using feedback to increase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kills of 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use knowledge, methods, techniques and equipment necessary for specific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ed most in non-supervisory levels of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and judgment in working with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at all levels of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ual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understand the complexities of the overall organization…See the “Big Pictur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ed most at the executive level of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gredients For Effective Human Skill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people behave the way they 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terns of behav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past behavior as a reference for futur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and direct behavior to reach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ipulating individuals and groups (training and facilit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ing the “right too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thing does not always work…must adap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s are “behavioral scienti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ed Behavioral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s are “behavioral scientis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, predict, direct, change and control behavior = Behavior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Systems of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s the organization into “who does what” and “who tells who to do what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organizations cannot overemphasize the importance of one group at the expen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cannot ignore the needs and pressures from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value as perceived by followers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uc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who are not getting results aren’t really leading.” Management is influencing people towards meaningful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rich, Zenger and Smallw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organizations focus on quality, respond quickly to change and innovate, develop and implement appropriate strategies, are willing to “network” with strategic partners and are committed to continuou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aging in a Rapidly Changing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s created by “Megawav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awaves include massive changes in the wor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s that cannot adapt to change disappear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gawa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e of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ing to accele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wants “mo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creates more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etition is “one click awa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Knowledge age is he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mited sub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es are highly specialized and stress is on flexi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of Leadership is World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ers also think in international term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New World Order”  is emer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opean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F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from human warfare to  human welf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halleng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leaders mu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e, adapt and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the ability to control their use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the use of 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leadership every hour of every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ment vs Lead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: “The process of working with and through individuals and groups and other resources to accomplish organizational goal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: “Whenever one person attempts to influence the behavior of an individual or a group, regardless of reas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erence is the “organizational go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 10 Leadership and Management Concer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ichard I. Le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ffectiv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ses management for most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feedback on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r inappropriate goal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ough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opportunity for adv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s not related to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easonable workl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s will not let me do m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halleng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luable Leadership Skil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HI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nagem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our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nked in order of impor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hip 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/intrapers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orient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al/tim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Competencies of Lead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 cerebral/cognitive compete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the situation being influenc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 behavioral compete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ing behavior and resources to meet the contingencies of the sit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 process compete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ng with others so that people can understand and accept what you are influe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56:56Z</dcterms:created>
  <dc:creator>WSFCS Patron</dc:creator>
  <dc:description/>
  <dc:language>en-US</dc:language>
  <cp:lastModifiedBy>AEURY</cp:lastModifiedBy>
  <cp:lastPrinted>2004-06-01T02:49:53Z</cp:lastPrinted>
  <dcterms:modified xsi:type="dcterms:W3CDTF">2006-09-05T16:48:57Z</dcterms:modified>
  <cp:revision>6</cp:revision>
  <dc:subject/>
  <dc:title>Chapter 1</dc:title>
</cp:coreProperties>
</file>